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200" y="2455920"/>
            <a:ext cx="4867560" cy="21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                               </a:t>
            </a: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ACCOMPLISH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90015"/>
              </a:buClr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of distributed engine sen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90015"/>
              </a:buClr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d FAA certification for the warning annunciation pa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                              </a:t>
            </a: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COMMERCI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790015"/>
              </a:buClr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ships created with major airplane retrofitter - Mod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790015"/>
              </a:buClr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0 systems sold to GA 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790015"/>
              </a:buClr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 to date $1,25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790015"/>
              </a:buClr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full time engineering and 2 productions jobs c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01760" y="1373040"/>
            <a:ext cx="4384440" cy="906480"/>
            <a:chOff x="401760" y="1373040"/>
            <a:chExt cx="4384440" cy="906480"/>
          </a:xfrm>
        </p:grpSpPr>
        <p:sp>
          <p:nvSpPr>
            <p:cNvPr id="45" name=""/>
            <p:cNvSpPr/>
            <p:nvPr/>
          </p:nvSpPr>
          <p:spPr>
            <a:xfrm>
              <a:off x="401760" y="1378080"/>
              <a:ext cx="4384440" cy="90144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6560" y="1373040"/>
              <a:ext cx="1338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90015"/>
                  </a:solidFill>
                  <a:latin typeface="Arial"/>
                </a:rPr>
                <a:t>INNOV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763560" y="61920"/>
            <a:ext cx="7388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General Aviation Engine Management Predictive-Analysi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762120"/>
            <a:ext cx="6003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ision Micro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ellingham, 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200" y="101520"/>
            <a:ext cx="12582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1920" bIns="619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15960"/>
                <a:tab algn="l" pos="3032280"/>
                <a:tab algn="l" pos="4548240"/>
                <a:tab algn="l" pos="6064200"/>
                <a:tab algn="l" pos="7580160"/>
                <a:tab algn="l" pos="9096480"/>
                <a:tab algn="l" pos="10612440"/>
              </a:tabLst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15960"/>
                <a:tab algn="l" pos="3032280"/>
                <a:tab algn="l" pos="4548240"/>
                <a:tab algn="l" pos="6064200"/>
                <a:tab algn="l" pos="7580160"/>
                <a:tab algn="l" pos="9096480"/>
                <a:tab algn="l" pos="10612440"/>
              </a:tabLst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B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sin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15960"/>
                <a:tab algn="l" pos="3032280"/>
                <a:tab algn="l" pos="4548240"/>
                <a:tab algn="l" pos="6064200"/>
                <a:tab algn="l" pos="7580160"/>
                <a:tab algn="l" pos="9096480"/>
                <a:tab algn="l" pos="10612440"/>
              </a:tabLst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I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nov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15960"/>
                <a:tab algn="l" pos="3032280"/>
                <a:tab algn="l" pos="4548240"/>
                <a:tab algn="l" pos="6064200"/>
                <a:tab algn="l" pos="7580160"/>
                <a:tab algn="l" pos="9096480"/>
                <a:tab algn="l" pos="10612440"/>
              </a:tabLst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searc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4241880"/>
            <a:ext cx="29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4680" y="3430440"/>
            <a:ext cx="4187880" cy="14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8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GOVERNMENT/SCIENCE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3328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1200" spc="-1" strike="noStrike">
                <a:solidFill>
                  <a:srgbClr val="790015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cost engine monitoring technology is one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thrust areas of the NASA AGATE program and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ed a vital element for GA revit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3328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FE technology creates a reduction in pilot work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and thus impacts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6173640"/>
            <a:ext cx="28940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993 Phase I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ASA Contact - Henry Jarrett  (757)864-19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ny Contact - Cathy Turk  (360)714-82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920" y="6418440"/>
            <a:ext cx="166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Arial"/>
              </a:rPr>
              <a:t>Langley Research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7840" y="1601640"/>
            <a:ext cx="31975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2760" y="2973240"/>
            <a:ext cx="2739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gine Monitoring System &amp; Annunciation 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60020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cost, Intelligent engine health monitoring system for Small Air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324480" y="914400"/>
            <a:ext cx="1521000" cy="1994040"/>
            <a:chOff x="6324480" y="914400"/>
            <a:chExt cx="1521000" cy="199404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6324480" y="914400"/>
              <a:ext cx="15210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16640" y="960480"/>
              <a:ext cx="1324080" cy="18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d</cp:lastModifiedBy>
  <dcterms:modified xsi:type="dcterms:W3CDTF">2000-10-24T17:02:26Z</dcterms:modified>
  <cp:revision>3</cp:revision>
  <dc:subject/>
  <dc:title>No Slide Title</dc:title>
</cp:coreProperties>
</file>