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88633"/>
        <c:axId val="89879705"/>
      </c:barChart>
      <c:catAx>
        <c:axId val="32488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79705"/>
        <c:crosses val="autoZero"/>
        <c:auto val="1"/>
        <c:lblAlgn val="ctr"/>
        <c:lblOffset val="100"/>
        <c:noMultiLvlLbl val="0"/>
      </c:catAx>
      <c:valAx>
        <c:axId val="89879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88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814-7B11-41A0-9BAC-55295904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D3F-0C60-4505-AA91-6A46A0AD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B31-8573-4B15-B6AC-8A52D713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9A2-9C36-4127-A9F0-EDC32F92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0F2-D0EA-409D-B003-7E725080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2F2-2054-4AC9-8FA4-41CE70F4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2EE-1702-48C8-AB19-90546B87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AA2-EAD1-4E6E-8291-B34CD978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B81-9ED7-4C1B-A141-8DE859E6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542-F939-4850-B369-2703871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E56-2AB2-42A3-87CE-1ED9DFE8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30D-9CAB-4B03-8D5E-D8161F3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18783-5D07-4C23-A644-31F7F6F29A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