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85169"/>
        <c:axId val="24446998"/>
      </c:barChart>
      <c:catAx>
        <c:axId val="28585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46998"/>
        <c:crosses val="autoZero"/>
        <c:auto val="1"/>
        <c:lblAlgn val="ctr"/>
        <c:lblOffset val="100"/>
        <c:noMultiLvlLbl val="0"/>
      </c:catAx>
      <c:valAx>
        <c:axId val="24446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85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4A1-44A6-4BB3-83B4-6134C3EB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AB2-87CD-45EC-934B-D8A3D483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746-A5B9-429C-8A28-0C07FDC3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B78-5E1E-41BD-B9FF-29A3EA67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A42C-D0F8-4BC8-B3F3-1A98C739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C2E-9540-4331-B018-1107D67F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4DA-B859-439A-83B1-F4ED8731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70A-F45B-4F03-BB90-3E0B875A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2EF-F8F4-455A-838B-6DFBE1E5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305-1F1C-4CCE-AF8B-976879A9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4FB-B902-420C-90F9-8BEB349E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23B-135A-475D-B882-0AAA72D8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D640F-0C84-44D8-9A3F-045660728F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