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42902"/>
        <c:axId val="68587380"/>
      </c:barChart>
      <c:catAx>
        <c:axId val="53442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7380"/>
        <c:crosses val="autoZero"/>
        <c:auto val="1"/>
        <c:lblAlgn val="ctr"/>
        <c:lblOffset val="100"/>
        <c:noMultiLvlLbl val="0"/>
      </c:catAx>
      <c:valAx>
        <c:axId val="68587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42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6F0-5EF0-47E4-8F1E-7EDCF3EF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70B-D3BB-4394-9E13-204B17D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470-05CB-42A7-B4CC-ADB93166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1FE-81EB-414F-907F-D3E2F178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9D8-FF50-4A30-A79E-740C380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E32-EB51-4D5D-BC07-EE86505C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A63-07B1-4A18-B637-E9A2E65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3E0-F560-4A97-9621-C318E578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8A7-777D-4C19-AFB2-7298E8A5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105-15EE-4E43-8965-FAF97F7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CAF-2AD5-46EC-A53A-1DC7EBC1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840-A0D1-4D91-AEBA-9A01427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1AFA-D00D-433C-A1BB-580141FA62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