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22391"/>
        <c:axId val="78368320"/>
      </c:barChart>
      <c:catAx>
        <c:axId val="32022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68320"/>
        <c:crosses val="autoZero"/>
        <c:auto val="1"/>
        <c:lblAlgn val="ctr"/>
        <c:lblOffset val="100"/>
        <c:noMultiLvlLbl val="0"/>
      </c:catAx>
      <c:valAx>
        <c:axId val="78368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22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574-19CF-40FA-8390-BEBDE8D8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B67-5EC0-449C-A7B8-3C2F86CB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FCF-7581-40E6-9F8E-B5EE9245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9C7-E1EC-4EC6-8E5A-E63792DE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9F3-340F-4A24-90DC-03B42394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22F-C64D-4FAA-8AB7-78183AAA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0FA-775C-40A3-9497-AC623546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2F8-C7E2-44DD-852B-DE4E10EC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810-E729-46B4-A37C-59BCBBBF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2DA-9B38-4BBC-8C3E-327C86D0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D5F-F187-40A8-86E4-371B702D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41B-E17A-4606-87EC-72638A58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EA19A-8E01-4C46-A8F0-59160494E9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